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C8D-FEBE-4A4B-8CEE-66182D33E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B6F1-B717-49FA-9BD5-D3D001FB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F32B-163F-496A-B9D7-B7796F9D0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97BF-03C2-4CA0-B36B-BF3E15A7A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3E2A3-4358-45F5-AE00-C7B500787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9CF67-0105-4729-AFE7-BD5DB94E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63FE-D8DC-4F69-87F1-461BFC11E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4E4-3885-43D5-A60D-F68BF3667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2506-1CB2-4E2A-AB15-889FE617D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7AB1-FE4F-4478-8F74-5520B2EF5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4086-A0B6-4E34-AB4D-12C27CC70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41A3-3ABA-4EFE-8802-8A892D17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42D14-670F-402F-8DD7-EB731CA83A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11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420040" y="495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8381880" y="10288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81880" y="16383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8362800" y="28195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8325000" y="21906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848720" y="285840"/>
            <a:ext cx="1066680" cy="5715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5238720"/>
            <a:ext cx="7391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3000"/>
          </a:bodyPr>
          <a:p>
            <a:pPr marL="147240" indent="-14724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good prep for hairier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>
              <a:spcBef>
                <a:spcPts val="1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147240" indent="-1472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609480" y="2723760"/>
            <a:ext cx="647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sier for you to underst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56220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easier for your teacher to underst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Aft>
                <a:spcPts val="13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 Black"/>
              </a:rPr>
              <a:t>Show Your Work</a:t>
            </a:r>
            <a:br>
              <a:rPr sz="4800"/>
            </a:br>
            <a:br>
              <a:rPr sz="8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solving for 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400640"/>
            <a:ext cx="6400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ore right answe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The equation balances, so your solution is corr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57200" y="304920"/>
          <a:ext cx="380988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343400" y="3124080"/>
            <a:ext cx="8002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8248680" y="43812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8286840" y="990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828684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8267760" y="2552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8191440" y="451476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6"/>
          <a:stretch/>
        </p:blipFill>
        <p:spPr>
          <a:xfrm>
            <a:off x="8191440" y="56959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905600" y="304920"/>
            <a:ext cx="895680" cy="617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0" y="4381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ite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44956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x your ans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565776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eck your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251460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line up equals sig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1523880"/>
            <a:ext cx="388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kip 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457200" y="304920"/>
          <a:ext cx="3809880" cy="6172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304920"/>
                    <a:ext cx="380988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3733920" y="45720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33920" y="4495680"/>
            <a:ext cx="685800" cy="457200"/>
          </a:xfrm>
          <a:prstGeom prst="leftArrow">
            <a:avLst>
              <a:gd name="adj1" fmla="val 50000"/>
              <a:gd name="adj2" fmla="val 37500"/>
            </a:avLst>
          </a:prstGeom>
          <a:solidFill>
            <a:srgbClr val="cc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152960" y="5295960"/>
            <a:ext cx="399960" cy="1228680"/>
          </a:xfrm>
          <a:custGeom>
            <a:avLst/>
            <a:gdLst>
              <a:gd name="textAreaLeft" fmla="*/ 0 w 399960"/>
              <a:gd name="textAreaRight" fmla="*/ 144360 w 399960"/>
              <a:gd name="textAreaTop" fmla="*/ 32040 h 1228680"/>
              <a:gd name="textAreaBottom" fmla="*/ 1196640 h 1228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857240" y="523800"/>
            <a:ext cx="733680" cy="5953320"/>
            <a:chOff x="1857240" y="523800"/>
            <a:chExt cx="733680" cy="5953320"/>
          </a:xfrm>
        </p:grpSpPr>
        <p:sp>
          <p:nvSpPr>
            <p:cNvPr id="119" name=""/>
            <p:cNvSpPr/>
            <p:nvPr/>
          </p:nvSpPr>
          <p:spPr>
            <a:xfrm>
              <a:off x="2286000" y="617220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7840" y="5810400"/>
              <a:ext cx="304920" cy="30456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47840" y="541008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095560" y="458136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076480" y="320976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990800" y="1733400"/>
              <a:ext cx="30456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019240" y="52380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09880" y="1200240"/>
              <a:ext cx="304560" cy="30456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57240" y="2305080"/>
              <a:ext cx="304920" cy="304920"/>
            </a:xfrm>
            <a:prstGeom prst="ellipse">
              <a:avLst/>
            </a:prstGeom>
            <a:noFill/>
            <a:ln w="38160">
              <a:solidFill>
                <a:srgbClr val="cc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1181160" y="4248000"/>
            <a:ext cx="2133720" cy="933480"/>
          </a:xfrm>
          <a:prstGeom prst="rect">
            <a:avLst/>
          </a:prstGeom>
          <a:noFill/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419360" y="380520"/>
            <a:ext cx="4267080" cy="3962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Write the eq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33520" y="304920"/>
          <a:ext cx="3809880" cy="76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04920"/>
                    <a:ext cx="3809880" cy="76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114800" y="3124080"/>
            <a:ext cx="8002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rid of the ones on the lef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solate the x’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57200" y="304920"/>
          <a:ext cx="380988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114800" y="3124080"/>
            <a:ext cx="8002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w a l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add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304920"/>
          <a:ext cx="3809880" cy="190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19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0" y="476280"/>
            <a:ext cx="762120" cy="1619280"/>
          </a:xfrm>
          <a:prstGeom prst="downArrow">
            <a:avLst>
              <a:gd name="adj1" fmla="val 50000"/>
              <a:gd name="adj2" fmla="val 53118"/>
            </a:avLst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4114800" y="3124080"/>
            <a:ext cx="8002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Get rid of the x’s on the righ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(isolate the one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457200" y="304920"/>
          <a:ext cx="3809880" cy="24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114800" y="4210200"/>
            <a:ext cx="80028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raw a l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and add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457200" y="304920"/>
          <a:ext cx="3809880" cy="320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"/>
          <p:cNvSpPr/>
          <p:nvPr/>
        </p:nvSpPr>
        <p:spPr>
          <a:xfrm>
            <a:off x="0" y="1752480"/>
            <a:ext cx="762120" cy="1619280"/>
          </a:xfrm>
          <a:prstGeom prst="downArrow">
            <a:avLst>
              <a:gd name="adj1" fmla="val 50000"/>
              <a:gd name="adj2" fmla="val 53118"/>
            </a:avLst>
          </a:prstGeom>
          <a:noFill/>
          <a:ln w="3816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4419720" y="41911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114800" y="3962520"/>
            <a:ext cx="80028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Divide both sides by 2 so you have things looking lik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Black"/>
              </a:rPr>
              <a:t>x = whate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466560" y="361800"/>
          <a:ext cx="3775320" cy="398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361800"/>
                    <a:ext cx="3775320" cy="398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419720" y="4952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4114800" y="4762440"/>
            <a:ext cx="8002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419360" y="380520"/>
            <a:ext cx="42670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Box your 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457200" y="304920"/>
          <a:ext cx="3809880" cy="495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5545080" y="7050240"/>
            <a:ext cx="27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419720" y="523872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219320" y="4133880"/>
            <a:ext cx="2114280" cy="1162080"/>
          </a:xfrm>
          <a:prstGeom prst="rect">
            <a:avLst/>
          </a:prstGeom>
          <a:noFill/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114800" y="5086440"/>
            <a:ext cx="800280" cy="609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419360" y="380880"/>
            <a:ext cx="426708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ff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cc"/>
                </a:solidFill>
                <a:latin typeface="Arial Black"/>
              </a:rPr>
              <a:t>Is it right?</a:t>
            </a: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heck your work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Substitute your solution for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457200" y="304920"/>
          <a:ext cx="380988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04920"/>
                    <a:ext cx="380988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419720" y="38098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4343400" y="3619440"/>
            <a:ext cx="800280" cy="609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6T17:45:27Z</dcterms:created>
  <dc:creator>Staff</dc:creator>
  <dc:description/>
  <dc:language>en-US</dc:language>
  <cp:lastModifiedBy>Staff</cp:lastModifiedBy>
  <dcterms:modified xsi:type="dcterms:W3CDTF">2006-01-13T18:25:31Z</dcterms:modified>
  <cp:revision>29</cp:revision>
  <dc:subject/>
  <dc:title>PowerPoint Presentation</dc:title>
</cp:coreProperties>
</file>